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B4AA-12C9-4F70-90BF-7911EDDC1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3E61-4064-4B49-B7D6-6B5B8914E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7327-798F-462D-AA81-F9D2633DC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E9DC-0A2D-4C05-BE7F-041348E42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061E-1DEF-4454-A437-B75F17522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C314-5B12-4AE3-89F4-5593A5956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9588-FB03-4EC0-9C76-B53CA56A2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17EF-1B91-48F9-8CF7-54A439F3E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0C38-9795-4E3A-8CBB-ACB798428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C553-5967-47DF-A87C-F53DCAEA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D194-4D28-4221-8769-DA5B0045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A9ED-74CB-4706-8212-5D65179B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B8E1-258F-40EE-8214-C9595E4447F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uthor: Kengo NAGASHI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er: 1.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Last Updated Date: 07/15/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ower point macro for splitting animation effect into separate slid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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parateAnimation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cense: GPLv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pyright (C) 2011, Kengo NAGASHIM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program is free software: you can redistribute it and/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ify it under the terms of the GNU General Public Licen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 published by the Free Software Foundation, eit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rsion 3 of the License, or any later vers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program is distributed in the hope that it will be usefu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ut WITHOUT ANY WARRANTY; without even the impli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rranty of MERCHANTABILITY or FITNESS FOR 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TICULAR PURPOSE.  See the GNU General Public Licen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more detail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 should have received a copy of the GNU General Publ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cense along with this progra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not, see &lt;http://www.gnu.org/licenses/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Recomme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crosoft(R) Office PowerPoint(R) 2003 or maybe l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[Testing environment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crosoft Windows(R) XP (32 bit) Service Pack (SP) 3, Microsoft(R) Office PowerPoint(R) 20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0" descr=""/>
          <p:cNvPicPr/>
          <p:nvPr/>
        </p:nvPicPr>
        <p:blipFill>
          <a:blip r:embed="rId1"/>
          <a:stretch/>
        </p:blipFill>
        <p:spPr>
          <a:xfrm>
            <a:off x="900000" y="2790720"/>
            <a:ext cx="3024360" cy="1933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"/>
          <p:cNvPicPr/>
          <p:nvPr/>
        </p:nvPicPr>
        <p:blipFill>
          <a:blip r:embed="rId2"/>
          <a:stretch/>
        </p:blipFill>
        <p:spPr>
          <a:xfrm>
            <a:off x="5364000" y="4005360"/>
            <a:ext cx="3024360" cy="2649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us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en this file and your power point fi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en macro menu from the your fi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ecute the macro name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separateAnimation]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3"/>
          <a:srcRect l="45879" t="0" r="0" b="0"/>
          <a:stretch/>
        </p:blipFill>
        <p:spPr>
          <a:xfrm>
            <a:off x="4211640" y="2755800"/>
            <a:ext cx="4248000" cy="1104840"/>
          </a:xfrm>
          <a:prstGeom prst="rect">
            <a:avLst/>
          </a:prstGeom>
          <a:ln w="0">
            <a:noFill/>
          </a:ln>
        </p:spPr>
      </p:pic>
      <p:sp>
        <p:nvSpPr>
          <p:cNvPr id="52" name="角丸四角形 11"/>
          <p:cNvSpPr/>
          <p:nvPr/>
        </p:nvSpPr>
        <p:spPr>
          <a:xfrm>
            <a:off x="7991640" y="3090960"/>
            <a:ext cx="502920" cy="720720"/>
          </a:xfrm>
          <a:custGeom>
            <a:avLst/>
            <a:gdLst>
              <a:gd name="textAreaLeft" fmla="*/ 24480 w 502920"/>
              <a:gd name="textAreaRight" fmla="*/ 478440 w 502920"/>
              <a:gd name="textAreaTop" fmla="*/ 24480 h 720720"/>
              <a:gd name="textAreaBottom" fmla="*/ 696240 h 720720"/>
            </a:gdLst>
            <a:ahLst/>
            <a:rect l="textAreaLeft" t="textAreaTop" r="textAreaRight" b="textAreaBottom"/>
            <a:pathLst>
              <a:path w="21600" h="30948">
                <a:moveTo>
                  <a:pt x="3600" y="0"/>
                </a:moveTo>
                <a:arcTo wR="3600" hR="3600" stAng="16200000" swAng="-5400000"/>
                <a:lnTo>
                  <a:pt x="0" y="27348"/>
                </a:lnTo>
                <a:arcTo wR="3600" hR="3600" stAng="10800000" swAng="-5400000"/>
                <a:lnTo>
                  <a:pt x="18000" y="3094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角丸四角形 13"/>
          <p:cNvSpPr/>
          <p:nvPr/>
        </p:nvSpPr>
        <p:spPr>
          <a:xfrm>
            <a:off x="7559640" y="4143240"/>
            <a:ext cx="871560" cy="3193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角丸四角形 14"/>
          <p:cNvSpPr/>
          <p:nvPr/>
        </p:nvSpPr>
        <p:spPr>
          <a:xfrm>
            <a:off x="5292720" y="4370400"/>
            <a:ext cx="1081080" cy="3189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角丸四角形 10"/>
          <p:cNvSpPr/>
          <p:nvPr/>
        </p:nvSpPr>
        <p:spPr>
          <a:xfrm>
            <a:off x="2340000" y="3860640"/>
            <a:ext cx="1655640" cy="28908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imation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imation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imation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imation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imation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正方形/長方形 3"/>
          <p:cNvSpPr/>
          <p:nvPr/>
        </p:nvSpPr>
        <p:spPr>
          <a:xfrm>
            <a:off x="4866120" y="1773360"/>
            <a:ext cx="12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imation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正方形/長方形 4"/>
          <p:cNvSpPr/>
          <p:nvPr/>
        </p:nvSpPr>
        <p:spPr>
          <a:xfrm>
            <a:off x="4866120" y="2133720"/>
            <a:ext cx="12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imation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正方形/長方形 5"/>
          <p:cNvSpPr/>
          <p:nvPr/>
        </p:nvSpPr>
        <p:spPr>
          <a:xfrm>
            <a:off x="4866120" y="2492280"/>
            <a:ext cx="12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imation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slide (Demo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角丸四角形 7"/>
          <p:cNvSpPr/>
          <p:nvPr/>
        </p:nvSpPr>
        <p:spPr>
          <a:xfrm>
            <a:off x="5076720" y="34290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nimation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角丸四角形 9"/>
          <p:cNvSpPr/>
          <p:nvPr/>
        </p:nvSpPr>
        <p:spPr>
          <a:xfrm>
            <a:off x="826920" y="5229360"/>
            <a:ext cx="784872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ush the “separateAnimation” button on the “separateAnimation”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4T06:07:10Z</dcterms:created>
  <dc:creator/>
  <dc:description/>
  <dc:language>en-US</dc:language>
  <cp:lastModifiedBy>NAGASHIMA</cp:lastModifiedBy>
  <dcterms:modified xsi:type="dcterms:W3CDTF">2012-04-10T03:27:15Z</dcterms:modified>
  <cp:revision>178</cp:revision>
  <dc:subject/>
  <dc:title>A power point macro for splitting animation effect into separate slides  -separateAnimation-</dc:title>
</cp:coreProperties>
</file>